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jpeg" ContentType="image/jpeg"/>
  <Override PartName="/ppt/media/image53.png" ContentType="image/png"/>
  <Override PartName="/ppt/media/image58.jpeg" ContentType="image/jpeg"/>
  <Override PartName="/ppt/media/image51.png" ContentType="image/png"/>
  <Override PartName="/ppt/media/image4.jpeg" ContentType="image/jpeg"/>
  <Override PartName="/ppt/media/image48.gif" ContentType="image/gif"/>
  <Override PartName="/ppt/media/image47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37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4.png" ContentType="image/png"/>
  <Override PartName="/ppt/media/image16.jpeg" ContentType="image/jpeg"/>
  <Override PartName="/ppt/media/image50.jpeg" ContentType="image/jpeg"/>
  <Override PartName="/ppt/media/image17.gif" ContentType="image/gif"/>
  <Override PartName="/ppt/media/image23.jpeg" ContentType="image/jpeg"/>
  <Override PartName="/ppt/media/image21.jpeg" ContentType="image/jpeg"/>
  <Override PartName="/ppt/media/image66.jpeg" ContentType="image/jpeg"/>
  <Override PartName="/ppt/media/image9.jpeg" ContentType="image/jpeg"/>
  <Override PartName="/ppt/media/image33.jpeg" ContentType="image/jpeg"/>
  <Override PartName="/ppt/media/image27.png" ContentType="image/png"/>
  <Override PartName="/ppt/media/image61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59.gif" ContentType="image/gif"/>
  <Override PartName="/ppt/media/image18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19.jpeg" ContentType="image/jpeg"/>
  <Override PartName="/ppt/media/image39.jpeg" ContentType="image/jpeg"/>
  <Override PartName="/ppt/media/image2.gif" ContentType="image/gif"/>
  <Override PartName="/ppt/media/image62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7.gif" ContentType="image/gif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31.gif" ContentType="image/gif"/>
  <Override PartName="/ppt/media/image34.png" ContentType="image/png"/>
  <Override PartName="/ppt/media/image52.jpeg" ContentType="image/jpeg"/>
  <Override PartName="/ppt/media/image10.gif" ContentType="image/gif"/>
  <Override PartName="/ppt/media/image32.jpeg" ContentType="image/jpeg"/>
  <Override PartName="/ppt/media/image38.jpeg" ContentType="image/jpeg"/>
  <Override PartName="/ppt/media/image36.jpeg" ContentType="image/jpeg"/>
  <Override PartName="/ppt/media/image57.png" ContentType="image/png"/>
  <Override PartName="/ppt/media/image43.gif" ContentType="image/gif"/>
  <Override PartName="/ppt/media/image35.gif" ContentType="image/gif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420-44C1-40D1-BCB1-7F42650D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E77-DD7A-48B6-BB8C-28936454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2AA-9697-4D5A-8D73-06CB2284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484-7655-43ED-B673-9D5C702C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081-9ADF-4104-9CB2-2DBE4437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934-5E72-46FF-9371-3D38D057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4E1-EC40-4015-9D4E-A0AA9F80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FA0-6D08-451C-B3F5-2B7AF44E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037-039A-4944-9F3A-F51BB97E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65B-0B1A-4EF9-BE4E-432E76BD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E74-CB2F-49D7-B1AD-7380381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F67-B1C2-4379-A514-D6A3FA9C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BC40-3B0E-4307-9BFF-AC375BA76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WORLD WAR LOO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446640"/>
            <a:ext cx="1523880" cy="1171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24480" y="3443400"/>
            <a:ext cx="152424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TALITARIAN ST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1939, Stalin firmly establish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talitarian govern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 U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totalitarian state the government suppresses all opposition and has strict control over the citizens who have no civi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3441600" cy="4906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00600" y="60199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talitarian states citizens are expected to treat the dictator with ad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RISE OF FASCISM IN IT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22093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Stalin was consolidating his power in the Soviet Union, Benito Mussolini was establishing a totalitarian regime in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solini seized power, taking advantage of high unemployment, inflation and a middle-class fear of Commu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11640" cy="4754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53080" y="380880"/>
            <a:ext cx="167652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SSOLINI CREATES FASCIST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3200400" cy="2377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4167360"/>
            <a:ext cx="8686800" cy="26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solini was a strong public speaker who appealed to Italian national p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1921, Mussolini had established the Fascist Party -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scism stressed nationalism and militar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placed the interest of the state above the interests of th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2763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USSOLINI MARCHES ON R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pite the fact that King Emmanuel II had already agreed to turn power over to Mussolini (IL DUCE), he staged a mock takeover by marching his black shirts through the streets of Rome in October, 192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190760" cy="3353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5867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solini marches on Rome, 19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230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ZIS TAKE OVER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19360" y="22093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while in Germany, Adolf Hitler followed a similar path 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end of WWI he wa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obless soldi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fting around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19, he joined a struggling group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tional Socialist German Workers’ Party (Nazis)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espite its name the party had no ties to social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752480" cy="156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38080" y="62164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ler, far left, shown during W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315200" y="228600"/>
            <a:ext cx="121752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81200" y="2057400"/>
            <a:ext cx="309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533520"/>
            <a:ext cx="65530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ITLER GAINS FOLLOW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ler’s ability as a public speaker and organizer drew many fol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quickly became the Nazi Party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ing himself “Der Fuhrer” (the leader) he promised to return Germany to its old gl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4113360" cy="4191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1409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172200" cy="5554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00200" y="594360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ler rose to power in part by criticizing the Versailles Treaty as unfair and humiliating to the proud German 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ITLER’S BELIE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ler explained               his beliefs in                     his book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in           Kamp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y Strugg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nted to unite all German-speaking people und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e grand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nted racial purity – “inferior” races such as Jews, Slavs and all non-whites were to form a work force for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master race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blond, blue-eyed “Arya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26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51055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alone, who owns the youth, gains the Futu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Adolf Hitler, speech at the Reichsparteitag, 19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5242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element of Hitler’s grand design was national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ler called i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Lebensraum” or living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ler believed that for Germany to thrive it needed more land at the expense of her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751560" cy="4029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181480" y="5791320"/>
            <a:ext cx="33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tler posed an immediate threat to Czechoslovakia, Poland, Austria, France, Belgium and 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173160"/>
            <a:ext cx="182880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TLER APPOINTED CHANCEL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5120"/>
            <a:ext cx="449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mid-1932, the Nazis had become the strongest political party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January of 1933, Hitler was appointed Chancellor (Prime Min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 office he quickly dismantled Germany’s democratic Weimar Republic and replaced it with a totalitaria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9800" y="1600200"/>
            <a:ext cx="294624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520" y="609588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tler was appointed chancellor by the aging President Hindenburg of the Weimar Re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130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: DICTATORS THREATEN WORLD 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any European countries the end of World War I was the beginning of revolutions at home,  economic depression and the rise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werful dictato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riven by nationalism and territorial expa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13056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6248520"/>
            <a:ext cx="304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powerful 2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entury dictators were Stalin &amp; Hit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THIRD REI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in power, Hitler established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rd Rei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or Third Ger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was during the Middle Ages and the Second came with the Unification of Germany in 18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Hitler the Third Reich would last 1,00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52960" y="1600200"/>
            <a:ext cx="358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LITANTS GAIN CONTROL OF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2880" y="18284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way around the world, nationalistic leaders were seizing control of the Imperial government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ke Hitler, they desired living space for their growing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000" y="1762200"/>
            <a:ext cx="4414680" cy="4867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20703600">
            <a:off x="4114440" y="3200040"/>
            <a:ext cx="4572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APAN IN THE 1930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1930s were years of fear in Japan, characterized by the resurgence of right-wing patriotism, the weakening of democratic forces, domestic terrorist violence (including an assassination attempt on the emperor in 1932), and stepped-up military aggression abr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24280" y="3581280"/>
            <a:ext cx="4114800" cy="293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62720" y="609480"/>
            <a:ext cx="2412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ROHITO: EMPEROR OF JAP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eror Hirohito’s reign lasted from 1926-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rohito followed tradition and chose a name for his 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reign was called "Showa", or "Radiating Peac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he began a military buildup with several attacks on China and a dream of Pacific d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379680" cy="4800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934320" y="304920"/>
            <a:ext cx="182880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APAN ATTACKS CH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1931, Japan attacked the Chinese province of Manch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ftly Japan captured the province which is roughly twice the size of Tex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867280" cy="3062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09680" y="64771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ese soldiers in Manchu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3760"/>
            <a:ext cx="76201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GRESSION BEGINS IN EUROP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early 1930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apan and Germany quit the League of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ler then began a huge military build-up (in direct violation of the Treaty of Versai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1936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tler sent troops into the Rhinel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German region bordering France and Belgium that was demilitarized by the Versailles Tre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30800" y="1828800"/>
            <a:ext cx="3228840" cy="4572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62720" y="4419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52680" y="457200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IVIL WAR IN SP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1936, a group of Spanish army officers led b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neral Francisco Franc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ebelled against the Spanish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ivil War ensued a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itler and Mussolini supported Franco’s fascis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hile the western democracies remained 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70240" cy="4190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594216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ANISH LOYALIST AT THE INSTANT OF DEA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obert Capra, 193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ANCO’S FASCISTS WIN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nco’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ictory in 1939 established him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scist leader of a totalitaria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nish Civil War led to a closer relationship between the German and Italian dic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ler and Mussolini signed an alliance known a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me-Berlin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932200" cy="3592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4120" y="58672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o admires a military parade in Madrid – 500,000 died in the Spanish Civil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15228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4956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71600" y="56386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asso’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uernic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tured the brutally of the Spanish Civil War and the Fascist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OF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eace settlement that ended World War I (Versailles Treaty) failed to provide a “just and secure peace” as 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ea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rmany grew more and more resentfu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treaty that they felt was too harsh and too pun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26744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6019920"/>
            <a:ext cx="42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Versailles Treaty (above on crutches) took a beating in the U.S. and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45320" y="0"/>
            <a:ext cx="14986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.S. REMAINS NEUTRAL . . .  FOR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memories still fresh from WWI, most Americans believed the U.S. should not get involved in the increasing aggression in Eur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ritics believed banks and manufacturers were pushing for war solely for their ow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s called them “merchants of dea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226224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19320" y="57913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ritics felt the U.S. might get involved solely to make a prof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DR: WE ARE NEUTRAL AND FRIEN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’s polices in the early to mid 1930s reflected a desire to remain out of the growing conflict 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recognized the USSR diplomatically in 1933 (exchanged ambassad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lowered tar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ithdrew armed forces from Lat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917960" y="228600"/>
            <a:ext cx="4075200" cy="5592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952880" y="5867280"/>
            <a:ext cx="396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DR and his secretary of State Cordell Hull study European political affairs very care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GRESS STAYS 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3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gress, too, pushed neu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gress passed a series of Neutrality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two acts outlawed arms sales or loans to nations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hird act outlawed arms sales or loans to nations fighting civil w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735360" cy="5257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37339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3276720"/>
            <a:ext cx="304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213400">
            <a:off x="752040" y="3205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.S. NEUTRALITY IS T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67080" cy="2835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Japan renewed attacks China in 1937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DR sent arms and supplies to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got around the Neutrality Acts because Japan had not actually declared war on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D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mised in a speech in Chicago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take a stand against aggression”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0574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DR speech in Chicago, 10/05/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: WAR I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in 1937, Hitler was anxious to start his assault o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stria was the first targ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jority of Austria’s 6 million people favored unification with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March 12, 1938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rman troops marched into Austria unop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ay later, Germany announced its union with 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044880" cy="2035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2322360" cy="2538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267080" y="2819520"/>
            <a:ext cx="243864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ZECHOSLOVAKIA N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85880" cy="11239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44953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ler then turned to Czechoslovak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3 million German-speaking people lived in the western border regions of Czechoslovakia called the Sudete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ler built up troops on the border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5029200" cy="3003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rot="19488000">
            <a:off x="360" y="2666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dete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0" y="2057400"/>
            <a:ext cx="2514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ITLER MAKES A DE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, just as an attack on Czechoslovakia seemed imminent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tler invited French leader Edouard Daladier and British leader Neville Chamberlain to meet with him in Muni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taly was there to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unich he promised that the annexation of the Sudetenland would be his “last territorial dema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998960" y="1828800"/>
            <a:ext cx="3562560" cy="4343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181480" y="63244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6172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mberlain and Hitler at the Munich Conference, 1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248520" cy="388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600200" y="4572000"/>
            <a:ext cx="5791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left to right; British Prime Minister Neville Chamberlain, French Prime Minister Eduard Deladier, German Fuehrer Adolf Hitler, Italian leader Benito Mussolini and Italian Foreign Minister Count Ciano at the Munich Conference, September 19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nich Conference, 19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403884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ACE IN OUR TIMES!!?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76560" y="3352320"/>
            <a:ext cx="42670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greement turned over the Sudetenland to Germany without a single shot f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mberlain returned to England and announc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have come back from Germany with peace with honor. I believe it is peace in our time.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648320" cy="3768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057400" cy="1460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105520" y="380880"/>
            <a:ext cx="358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mberlain and Daladier believed Hitler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gned the Munich Agre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September of 19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PPEASEMENT CRI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s of Chamberlain included English politician and future Prime Minist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nston Churchi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ho said Europe had adopted a dangerou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licy of appeas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or giving up principles to pacify an aggr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910040" y="1600200"/>
            <a:ext cx="3789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IMAR REPUBLIC RULES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ictors installed  many new democratic governments in Europe after World War I includ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imar Republic in German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were overwhelmed from the start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ggled econo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352680" cy="441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624852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German woman is seen here in 1923 feeding bundles of money into the furnace. . .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RMAN OFFENSIVE BEG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7656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pite the Munich Agreement, Hitler was not finished expanding the German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, 15 1939: German troops poured into what remained of Czechoslova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 nightfall Hitler declared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Czechoslovakia has ceased to exi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4920" y="1917720"/>
            <a:ext cx="4419360" cy="4102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09480" y="6095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 troops invade Czechoslovakia in March of 1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TARGET: PO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tler next turned toward Germany’s eastern neighbor –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ought Hitler was bluffing because an attack on Poland surely would bring USSR, Britain and France into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ensions rose over Poland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lin shocked everyone by signing a Non-Aggression Pact with Hit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bitter enemies now Communist Russia and Fascist Germany vowed to never attack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70360" cy="4953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4120" y="6477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ners: Hitler &amp; S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191120" y="40384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ITZKRIEG IN 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66920" y="1600200"/>
            <a:ext cx="3048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day broke on September 1, 1939, the Germ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uftwaffe (air force) roared over Pol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ining bombs on airfields, military bases, railroads and c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rman tanks raced across Polish country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843200"/>
            <a:ext cx="5334120" cy="3757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38080" y="6019920"/>
            <a:ext cx="3124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7150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UTE FORCE: Germans marched through the streets of Polish towns and adorned buildings with swastik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AR II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the Polish invasion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itain and France declared war o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late to save Poland, the Allies focused on getting troops to the front in time to stop Germany’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itzkrieg strate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Lightning War – fast moving tanks and powerful aircr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923000" y="1371600"/>
            <a:ext cx="384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LIN ATTACKS EASTERN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Hitler was blitzing western Poland, Stalin was attacking th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lin and Hitler had secretly agreed to divide Poland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r in 1939, Stalin attacked and defeated Finland while Hitler conquered Norway and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624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143000" y="533520"/>
          <a:ext cx="6826320" cy="1550880"/>
        </p:xfrm>
        <a:graphic>
          <a:graphicData uri="http://schemas.openxmlformats.org/drawingml/2006/table">
            <a:tbl>
              <a:tblPr/>
              <a:tblGrid>
                <a:gridCol w="682632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hange rates, US Dollar to Mark, 1918-1923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Gerald D. Feldman, The Great Disorder, Oxford : UP 1997, p.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28600" y="2286000"/>
          <a:ext cx="8763120" cy="3138480"/>
        </p:xfrm>
        <a:graphic>
          <a:graphicData uri="http://schemas.openxmlformats.org/drawingml/2006/table">
            <a:tbl>
              <a:tblPr/>
              <a:tblGrid>
                <a:gridCol w="1523880"/>
                <a:gridCol w="1906560"/>
                <a:gridCol w="1524240"/>
                <a:gridCol w="3808440"/>
              </a:tblGrid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1918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1919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192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1921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1922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1922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1922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 1922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 192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1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8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91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.81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.22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80.96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72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918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 1923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 192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90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475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70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966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,412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20,455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860,000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260,000,000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93,600,000,000.00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00,000,000,00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295200" cy="34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67280" y="5029200"/>
            <a:ext cx="2955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05360" cy="466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14600" y="51814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53341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51814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Konstanz 50 Milliarden (million) Mark overprinted on 5 Mark illustrates the extend of the inflation in Weimar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5530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OSEPH STALIN TRANSFORMS THE USS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66720" y="182880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V.I. Lenin died in 1924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oseph Stalin took contr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goals included both agricultural and industrial grow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lin hoped to transform the USS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a backward rural nation to a major industrial pow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325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lin (right), shown here with Lenin, ruled Russia with an iron fist for nearly 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722400" cy="403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162920" y="304920"/>
            <a:ext cx="152388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ALIN’S PL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first year of his “5-year plan” Stalin placed all economic activity under strict state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1937, Stalin had achieved his goal– USSR was the world’s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rgest industri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398760" cy="4876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461960" cy="1976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29200" y="617220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1932 poster championed the Soviet Defense indu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LIN MURDERS MILLIONS OF SOVI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22096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his desire to purge (eliminate) anyone who threatened his power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lin was responsible for the deaths of 8 – 13 mill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his own Soviet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llions more died of famine caused by his economic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260440"/>
            <a:ext cx="4648320" cy="3606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5867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 camp workers in Siberia -- Stalin sent millions of political prisoners to labor c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1523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21:24:13Z</dcterms:created>
  <dc:creator> </dc:creator>
  <dc:description/>
  <dc:language>en-US</dc:language>
  <cp:lastModifiedBy>Susan Gregory</cp:lastModifiedBy>
  <dcterms:modified xsi:type="dcterms:W3CDTF">2008-04-23T16:00:52Z</dcterms:modified>
  <cp:revision>45</cp:revision>
  <dc:subject/>
  <dc:title>Slide 1</dc:title>
</cp:coreProperties>
</file>